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22F8-B264-483D-9EA1-312155E083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B079-7D7C-43B0-A5C5-8A2C96358D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463-0F9C-4915-AB67-AF9A69AB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858-4AAC-42CE-B6C4-799D2FAC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6DC-62DC-49AA-AD79-DC685037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C52-BE19-4AFE-A5FA-263886E1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A17-A9B7-4032-BEAE-2D9FE8D4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582-7EE5-4E6A-B19B-D20F8415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350-4173-425A-9DA1-5F60B815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CDB-81D4-489E-AAEB-9F190F5D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D6E-62E0-4EA9-93EB-988831EC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54F-B1B0-47CF-868E-E7B2323D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DB4-459D-4C92-981D-D9078002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E6D-0F37-4B7E-832C-52BB6A90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AA38-DED4-4595-AF74-8495EFC0016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DF940213-B785-4CAC-B997-50D802CAFA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31800" y="1643040"/>
            <a:ext cx="7839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. 27.60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θηκ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αὐτο ἐν τῳ καινῳ αὐτου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νημειῳ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e plac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im in his new to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s 20.35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καριον ἐστιν μαλλο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διδονα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ἠ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μβανε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more blesse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g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an to rece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. 3.20: 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δου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ἑστηκ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πι την θυραν και κρου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hold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 st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t the door and kn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21DD2A1B-0753-4497-B4A2-7DB974619B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800" y="1428840"/>
            <a:ext cx="84204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s marked † conjugate identically to the corresponding part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 the Perfect Active is used for a Present intransitive meaning, the Pluperfect Active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ἱστηκει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†) is used for an Imperfect intransitive mea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στημ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 both a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, watch the forms of the participles (and the other moods) - 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στ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Present Participle)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τησ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ffix -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Participle – transitive)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τ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no suffix -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Participle – intransitiv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20E9A869-1E56-4EBC-990E-3EB444F194F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68120" y="1128600"/>
            <a:ext cx="896148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9.36: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και λαβων παιδιον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ἐστησεν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αὐτο ἐν μεσῳ αὐτω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aking a child 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ood h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ir mid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. 25.33: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και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στησει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τα μεν προβατα ἐκ δεξιων αὐτου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e will st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or 'put') the sheep on his right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ansi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. 20.32: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και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στας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ὁ Ἰησους ἐφωνησαν αὐτους και εἰπεν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Jesu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ood sti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lit: 'having stood') and called them and said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Cor. 1.24: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συνεργοι ἐσμεν της χαρας ὑμων∙ τῃ γαρ πιστει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ἑστηκατε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fellow-workers of your joy, becaus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you st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he fai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A00082B9-3BA8-4A8D-8C25-B747DD0459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714680" y="1316160"/>
            <a:ext cx="5715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9.1.4 The pattern of ending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6160" y="2643120"/>
          <a:ext cx="8858160" cy="3140280"/>
        </p:xfrm>
        <a:graphic>
          <a:graphicData uri="http://schemas.openxmlformats.org/drawingml/2006/table">
            <a:tbl>
              <a:tblPr/>
              <a:tblGrid>
                <a:gridCol w="1584360"/>
                <a:gridCol w="1455480"/>
                <a:gridCol w="1536840"/>
                <a:gridCol w="1477800"/>
                <a:gridCol w="1428840"/>
                <a:gridCol w="137484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η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η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ω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ῃ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ῃ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ῳ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η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η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ω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ω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ω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ω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η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η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ω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α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α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ω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ω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ωσ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9"/>
          <p:cNvSpPr/>
          <p:nvPr/>
        </p:nvSpPr>
        <p:spPr>
          <a:xfrm>
            <a:off x="2362320" y="1928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 Ac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20CE169C-5334-4C89-A8D1-3D884FF1C5B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528720" y="12859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 Ac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7320" y="2057400"/>
          <a:ext cx="8915400" cy="3139920"/>
        </p:xfrm>
        <a:graphic>
          <a:graphicData uri="http://schemas.openxmlformats.org/drawingml/2006/table">
            <a:tbl>
              <a:tblPr/>
              <a:tblGrid>
                <a:gridCol w="1557360"/>
                <a:gridCol w="1571400"/>
                <a:gridCol w="1571760"/>
                <a:gridCol w="1191960"/>
                <a:gridCol w="1251000"/>
                <a:gridCol w="177192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ν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ν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ν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ις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–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σα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;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ντ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ς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ντ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τω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τω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τω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υ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σ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ντ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E6B96F94-72A2-4C20-96FB-196F5906246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43080" y="1500120"/>
            <a:ext cx="845820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orist Act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ica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θηκ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στησα, ἐδωκ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onjugate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rly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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στημ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so has intransiti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στη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ndings a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υθη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As in the Present but using the Verbal ste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.e. missing the initial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, δ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 except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ative which ar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ς, στηθι, δ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nfinitive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ιναι, στηναι, δουν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"/>
          <p:cNvSpPr/>
          <p:nvPr/>
        </p:nvSpPr>
        <p:spPr>
          <a:xfrm flipV="1">
            <a:off x="342360" y="3981600"/>
            <a:ext cx="8458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EA501B1A-F902-4AFB-BC18-15965A9EC34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371600" y="1122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9.1.5 Other similar verb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28520" y="1684440"/>
            <a:ext cx="8801280" cy="48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ἱη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literally 'send' but only found in compounds such a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φιη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 forgive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υνιη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 understand) – This follows that same pattern a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ιθημ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th the Present stem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ἱε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Verbal stem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ἑ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Verbs in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υμ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uch a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δεικνυμ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I show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πολλυ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 destroy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ῥηγνυμ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 break) – These hav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erb endings in the Present Tense (with th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owel dominating), but then use an altered stem for the other tenses along with the normal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dings  (see the principal parts for the detail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φημι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entium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(I  say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- This only appears in the following Indicative Active forms: Present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η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 say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ησι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he says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φασι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y say; Imperfect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φ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he s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εἰμι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(I am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If you look back at the Present of 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see that it has some similarities with the Present of th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er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142920" y="1214280"/>
            <a:ext cx="8858160" cy="53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ke 5.21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ίς δυναται ἁμαρτιας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ἀφειναι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εἰ μη μονος ὁ θε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is abl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o forg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ns except God al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. 2.4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λλα ἐχω κατα σου ὁτι την ἀγαπην σου την πρωτη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ἀφηκε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 have (this) against you tha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you abandon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our fir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. 4.7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φη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αὐτῳ ὁ Ἰησους∙ Παλιν γεγραπτα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a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him, 'Again it is written …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s. 2.18: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δειξο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μοι την πιστιν σου χωρις των ἐργων, καγω σο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δειξω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κ των ἐργων μου την πιστι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h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 your faith without works, 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will sh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ou m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ith through my wo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C3449EB4-A1A9-4688-88BB-566DA54B6F8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53FCED17-7F10-4052-BAD5-4EF86498D5B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181160" y="2233440"/>
            <a:ext cx="6781680" cy="2297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and Imperf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actions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Te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hort vowel leng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B6245358-82C0-428B-83BC-B7D9C0E962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0840" y="1865160"/>
          <a:ext cx="8840880" cy="3292560"/>
        </p:xfrm>
        <a:graphic>
          <a:graphicData uri="http://schemas.openxmlformats.org/drawingml/2006/table">
            <a:tbl>
              <a:tblPr/>
              <a:tblGrid>
                <a:gridCol w="1523880"/>
                <a:gridCol w="2210040"/>
                <a:gridCol w="2280960"/>
                <a:gridCol w="282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λε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lo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μα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onou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ηρο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ulfi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hthong or long drops ou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tens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C318EFC9-54D0-4601-93E8-7FF6A44A3E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643040"/>
            <a:ext cx="830592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sent infinitives of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erbs behave as if the Infinitive ending is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ot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ι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henc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μα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ρου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. Imperfect Active Indicative of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erbs the 'optional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 was not used. Thus the ending i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ing: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φιλει, ἐτιμα, ἐπληρου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ew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erbs keep th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other tenses e.g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εσ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B1B79CBD-1336-4787-A562-FA0147959D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38080" y="14158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.1 Characteristics of 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–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85840" y="2581200"/>
          <a:ext cx="8529480" cy="2770200"/>
        </p:xfrm>
        <a:graphic>
          <a:graphicData uri="http://schemas.openxmlformats.org/drawingml/2006/table">
            <a:tbl>
              <a:tblPr/>
              <a:tblGrid>
                <a:gridCol w="1357200"/>
                <a:gridCol w="2428920"/>
                <a:gridCol w="2028960"/>
                <a:gridCol w="2714400"/>
              </a:tblGrid>
              <a:tr h="1267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hree 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μ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erb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S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Present &amp; Imperfec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η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pl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ω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δ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η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use to 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στα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F3E05434-FD11-4914-BBFB-C0697F0E16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785880" y="1187280"/>
            <a:ext cx="548640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φιλε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 He was l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φιλημα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 I have been l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τιμ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She was hono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μᾳ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You are hono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714680" y="4143240"/>
            <a:ext cx="59292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μησ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 I will hon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ρο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t is fulf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ρουτα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It is being fulf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πληρωτα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It has been fulfi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FB907EEF-6853-498C-93DC-E0BA2A0A11D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42920" y="1285920"/>
            <a:ext cx="892980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Thes. 2.1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ρωτωμ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δε ὑμας, ἀδελφοι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e as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ou, brothe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ph. 6.2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τιμ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ον πατερα σου και την μητερ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on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our father and m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l. 2:20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ζω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δε οὐκετι ἐγω,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ζ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δε ἐν ἐμοι Χριστος∙ ὃ δε νυ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ζω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 σαρκι, ἐν πιστε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ζω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ῃ του υἱου του θεου του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ἀγαπησαντο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με και παραδοντος ἑαυτον ὑπερ ἐμου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is no long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 who l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but Chris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v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n me. Wha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w l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n flesh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 l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y faith in the son of Go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o lo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lit: 'the one having loved') me and handed himself ove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 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6CB3FA69-8369-4C5E-B35E-3D056CCA2AC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14200" y="1428840"/>
            <a:ext cx="8715600" cy="47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. 12.16-17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μετιμησ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αὐτοις ἱνα μη φανερον αὐτο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ησωσιν, ἱν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πληρωθ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ο ῥηθεν δια Ἠσαϊου του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φητου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e rebuk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m so that they would not make hi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, in order that what was spoken through Isaiah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he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ight be fulfill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Tim. 3.16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φανερωθη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ν σαρκι, ἐδικαιωθη ἐ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νευματ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as reveal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flesh, justified in spirit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7FD325FC-30C8-4146-8323-118449DA9A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14200" y="1214280"/>
            <a:ext cx="892980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sent stem is formed from the Verbal stem by a form of redupl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consonant is repeated (or an 'h' sound for those beginning with vowels 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together with a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he difference between this and proper reduplication (for the Perfect) which uses a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ow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4761000"/>
            <a:ext cx="7772400" cy="111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-</a:t>
            </a:r>
            <a:r>
              <a:rPr b="0" lang="el-GR" sz="3500" spc="-1" strike="noStrike">
                <a:solidFill>
                  <a:srgbClr val="000000"/>
                </a:solidFill>
                <a:latin typeface="Gentium"/>
              </a:rPr>
              <a:t>μι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verbs the Present stem is longer than the Verbal 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5F2861F8-21E4-4AC9-A166-07167FDD9EC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98280" y="117648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.2 Parsing -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μι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verbs – the survival guid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2360" y="1801800"/>
          <a:ext cx="8534520" cy="4602240"/>
        </p:xfrm>
        <a:graphic>
          <a:graphicData uri="http://schemas.openxmlformats.org/drawingml/2006/table">
            <a:tbl>
              <a:tblPr/>
              <a:tblGrid>
                <a:gridCol w="4516560"/>
                <a:gridCol w="40179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stem + au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stem + 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uffi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Indicative (or 1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Other Mood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stem + augment + 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uffi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Active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stem + au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Active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Active Other Mo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stem + 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ssive (+augment in Indicativ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al stem + 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θη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Pass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plicated Verbal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573232C1-787F-44AC-A4A2-8FA218BA93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41360" y="1428840"/>
            <a:ext cx="82296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διδωμι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τιθημι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oth use a 1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orist in the Indicative, and a 2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orist in the Other Moods. Thus, Verbal stem plus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ust be the Future Indicative (since there is no 1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orist Other Moods). For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ἱστημι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here there is a 1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orist in the Other Moods, the Future Indicative has to be distinguished by its endings, which are always the same as the Future Indicative of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reduplication in the Perfect is proper reduplication with an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δεδο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,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τεθε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,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ἑστα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932F670A-3B98-47D8-ACE4-E4A02B3E2F8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280" y="1550880"/>
          <a:ext cx="8839440" cy="4822920"/>
        </p:xfrm>
        <a:graphic>
          <a:graphicData uri="http://schemas.openxmlformats.org/drawingml/2006/table">
            <a:tbl>
              <a:tblPr/>
              <a:tblGrid>
                <a:gridCol w="1368720"/>
                <a:gridCol w="2365200"/>
                <a:gridCol w="457200"/>
                <a:gridCol w="2563920"/>
                <a:gridCol w="331560"/>
                <a:gridCol w="1752840"/>
              </a:tblGrid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ιθετε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esent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you pla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θηκε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erbal stem +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nd Aorist Indic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he plac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τιθεναι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esent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o place (Infinitiv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θειναι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erbal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nd Aorist other Mo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o place (Infinitiv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εδοτ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redupl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erfe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t has been giv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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ἱστας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esent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tanding (Participl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τας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erbal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nd Aorist other Mo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having stood (Participl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ωσετε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erbal stem +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uture Indic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you will g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στησεν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Verbal stem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+ ε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+ </a:t>
                      </a:r>
                      <a:r>
                        <a:rPr b="0" lang="el-GR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st Aorist Indic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he st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95"/>
          <p:cNvSpPr/>
          <p:nvPr/>
        </p:nvSpPr>
        <p:spPr>
          <a:xfrm>
            <a:off x="152280" y="113364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213E15FD-C889-4F07-B0CD-FE9BCB6C2B1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47600" y="1157400"/>
            <a:ext cx="885348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hn 2.10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λεγει αὐτῳ∙ Πας ἀνθρωπος πρωτον τον καλον οἰνο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τιθησι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d he said to him, 'Every perso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puts (out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he fine wine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rst …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t. 12.18: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θησω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το πνευμα μου ἐπ’ αὐτ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I will pla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y spirit on hi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hn 19.19: 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ἐγραψεν δε και τιτλον ὁ Πιλατος κα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θηκε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ἐπι του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ταυρ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ilate also wrote a notice and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plac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it) on the cro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 Tim. 1.11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ς ὃ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τεθη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ἐγω κηρυξ και ἀποστολος και διδασκαλ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which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I was appoint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 herald, and apostle and teach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130320" y="1235160"/>
            <a:ext cx="89154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ph. 1.22: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και αὐτον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ἐδωκεν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κεφαλην ὑπερ παντα τῃ ἐκκλησιᾳ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e ga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im as head (or 'made him head') over all thing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ur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4.11: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ἐλεγεν αὐτοις∙ Ὑμιν το μυστηριον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δεδοται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της βασιλειας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του θεο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said to them, 'The secret of the kingdom of Go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as been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iv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you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. 20.18: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και ὁ υἱος του ἀνθρωπου 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παραδοθησεται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τοις ἀρχιερευσιν</a:t>
            </a:r>
            <a:r>
              <a:rPr b="0" lang="en-GB" sz="2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son of ma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ill be handed ov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the chief prie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Pet. 3.15: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καθως και ὁ ἀγαπητος ἡμων ἀδελφος Παυλος κατα την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δοθεισαν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 αὐτῳ σοφιαν ἐγραψεν ὑμι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ust as our beloved brother Paul also wrote to you according t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isdo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iv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8BAE61E8-03A0-453A-B169-7CDE7FBF1C8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9:Grammar </a:t>
            </a:r>
            <a:fld id="{29E88BF2-F966-4527-8C4E-9DD25545D5A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547640" y="11080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.3 The meaning of 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ἱστημι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1360" y="1758960"/>
          <a:ext cx="8758440" cy="4486320"/>
        </p:xfrm>
        <a:graphic>
          <a:graphicData uri="http://schemas.openxmlformats.org/drawingml/2006/table">
            <a:tbl>
              <a:tblPr/>
              <a:tblGrid>
                <a:gridCol w="819000"/>
                <a:gridCol w="904320"/>
                <a:gridCol w="216000"/>
                <a:gridCol w="2443680"/>
                <a:gridCol w="2738520"/>
                <a:gridCol w="16369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you want .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use .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ve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use to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ἱστη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cause to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τησ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used to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στησ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nsitiv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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ἑστηκ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τησομ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t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ther 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στη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σταθη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22:23:23Z</dcterms:created>
  <dc:creator>Sarah</dc:creator>
  <dc:description/>
  <dc:language>en-US</dc:language>
  <cp:lastModifiedBy>Sarah</cp:lastModifiedBy>
  <dcterms:modified xsi:type="dcterms:W3CDTF">2009-07-11T14:37:20Z</dcterms:modified>
  <cp:revision>71</cp:revision>
  <dc:subject/>
  <dc:title>Slide 1</dc:title>
</cp:coreProperties>
</file>